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430-AD4E-4FEE-BBDD-D1D1156C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C94-78D4-401B-917B-AD163643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5AE-6E01-4A94-890B-87365CF1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41F-40C3-493B-9F2B-CBAA07C9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2CA3-9792-45C5-A55D-8D3093FD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A15-B748-424A-BCCC-380FF60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168-4E1C-46AD-8B62-E39CF619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B137-E819-4992-B347-1CF67F67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9532-3872-4B27-8AF0-FA6AB924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E3F6-4EE7-4413-8ACA-765CD30A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4BA-30FB-4361-92F0-C02A9E5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930-02EB-469A-A8DF-483ADFFC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0DD2-9AB9-4302-8A86-E5CDB06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2B1-170C-4D2F-8D8F-58607C1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ABE5-D1E4-4910-83D7-065B6A68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086C-11C0-4EA7-A5E2-327EE2BC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4D40-780E-426D-9C5C-9CE0D985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E63-2D00-4331-9831-234411F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6D8-3472-4E56-9C11-E07CC3D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CEA-FAC8-4EAA-BB0E-DDB9282F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E7B-3EFA-4181-8598-E3A27787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EFC-4A6E-4E3F-8347-661102B3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2AB-520A-49BC-A3E8-4A55CE4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14C-C504-490B-9196-A1AE872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CBC-9FB3-41C1-ADF6-A6648449F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DBA9-4F1F-4901-8845-A66606E51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0400" y="176040"/>
            <a:ext cx="5583240" cy="36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«УПРАВЛЕНИЕ ПРОЕКТ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9120" y="252216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вление про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циплина находится в логической и содержательно-методической взаимосвязи с другими частями общеобразовательной программы и базируется на знаниях, полученных при изучении такой дисциплины как «Правоведение и правовые основы противодействия коррупци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 1 . Общая характеристика  сопровождения и управлен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ами.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16426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 изучения дисцип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ключается в усвоении  студентами основополагающего набора сведений в области управления проектами, овладение теорией и практикой управления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а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учения дисцип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ляются: усвоение студентами всего набора определений, понятий, категорий и показателей в сфере управления проектами; подготовка студентов к самостоятельному принятию решений, касающихся проектной деятельности, а также выработка у них практических навыков управления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 1 . Общая характеристика  сопровождения и управления прое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840" y="157140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юридического сопровожден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я проек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юридического сопровождения 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я проек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е, субъекты и объекты юридического  сопровождения и управления проектам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ы, функции и принципы юридического  сопровождения и управления проектам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пы юридического сопровождения и управления  проек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ы юридического сопровождения и управления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рист/юрисконсульт: понятие, профессиональная  этика, личность ю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сти работы штатного ю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сти работы юридическ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Юридический а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, значение и объекты юридического аудита.  Виды юридического аудит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и принципы юридического ауд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ий аудит, осуществляемый штатным юристом/юридической службой: основания, условия, порядок  осуществления, периодичн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ческие аспекты построения договорной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пы юридического сопровождения и управления договорно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 2. Особенности сопровождения и управления отдельными видами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ое сопровождение и управление договорной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юридического сопровождения и управления договорной работой: общие по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и принципы юридического сопровождения и управления договорной раб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проектами, связанными с подготовкой компании к участию в конкурсах и тор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проектами, связанными 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м государственных гра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ридическое сопровождение отдельных видо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 объектами интеллектуаль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 старта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ое сопровождение и управление проектами, связанными со строи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ое сопровождение и управление противодействием  корпоративному мошен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правореализаци-онной технологией следует понимать инструментарий правоприменительной и иной право - реализационной деятельности, используемый для оформления юридических решений - актов реализации права - с целью обеспечения эффективности правового регу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заключить, что правореализационная юридическая техника включает в себя два блочных подразделения: правоприменительную технику и иную правореализационную тех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12-18T07:39:10Z</dcterms:modified>
  <cp:revision>619</cp:revision>
  <dc:subject/>
  <dc:title>Diapositiva 1</dc:title>
</cp:coreProperties>
</file>